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DA6-77FA-4213-BAD4-BDA9F56F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27E-FB58-484C-8D8B-6E2346FB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B76-7370-4161-813A-C8D32F0F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9C3-FC91-4D5F-B800-E8CF737E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6A5-44CF-47C9-B76E-14F9BC5C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0E2-31A9-4725-B793-111F8328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466-9CE7-407F-B30C-F13BAD8F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58F-79AF-4E7B-B699-88DF0E28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2D0-2C0C-4037-A0C2-8DDEC0EC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76F-C06A-4E4E-9B96-367F10A8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DD6-213A-4CA2-AC37-533FDCBE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3D5-330A-470A-95ED-1DFC622D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8498-4D2D-43A0-A0EE-AB21CE193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GUNA general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 Cur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1th July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1) Working Groups for the design study (2h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.    Tank Instr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2.    Underground Tan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.    DAQ &amp; Cali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.    Cosmic Rays, Local Backgrounds,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5.    Site exca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6.    Liqui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7.    Safety &amp;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8.    Physics &amp; Simu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2) Review of the  Physics topics in the paper: (1h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) Proton dec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) supernova phys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) atmospheric 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) solar 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) reactor 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f) geoneutr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) neutrino astrophysics other top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) 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) neutrinos with b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3) Common tools (1h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) Update on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b) Discussion on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) A common Theory advisory committee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99"/>
                </a:solidFill>
                <a:latin typeface="Arial"/>
              </a:rPr>
              <a:t>4) FP7 organisation matter (1h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8:44:35Z</dcterms:created>
  <dc:creator>J.E Campagne</dc:creator>
  <dc:description/>
  <dc:language>en-US</dc:language>
  <cp:lastModifiedBy>J.E Campagne</cp:lastModifiedBy>
  <dcterms:modified xsi:type="dcterms:W3CDTF">2006-07-21T10:19:46Z</dcterms:modified>
  <cp:revision>2</cp:revision>
  <dc:subject/>
  <dc:title>LAGUNA general meeting</dc:title>
</cp:coreProperties>
</file>